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BA6-F957-401B-B029-8044AC68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DD24-7B78-444A-9AB5-2C8A72F9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126-208C-40EB-A732-6814237C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99C-267E-4DBD-8969-989AF9E9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B17-42CC-4A55-AD48-6286780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8E2-0D80-4172-A930-17D7E8FD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2FD2-7323-4616-844F-44FB8F31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C59-04E4-40CA-8625-426F0861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DBB1-7477-403A-985D-5DA6B333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5BB-C1AA-4C15-96E7-5F93A4A9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761-7DA3-433F-B95F-FA0B1FB0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6BB-F979-4239-8AC0-02CC7C6C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CEE7-7129-466A-B0E9-22D64C402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610480" cy="6324480"/>
          </a:xfrm>
          <a:prstGeom prst="rect">
            <a:avLst/>
          </a:prstGeom>
          <a:solidFill>
            <a:srgbClr val="bbe0e3"/>
          </a:solidFill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160800" cy="3273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411480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                    учитель начальных классов МОУ СОШ №49 г.Волгограда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ШЕВЦОВА С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6172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533520"/>
            <a:ext cx="5829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ак образуются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плоды?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3200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дактическое пособие к урокам окружающего мира 1-2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613240" y="3011400"/>
            <a:ext cx="1258200" cy="953280"/>
            <a:chOff x="2613240" y="3011400"/>
            <a:chExt cx="1258200" cy="953280"/>
          </a:xfrm>
        </p:grpSpPr>
        <p:sp>
          <p:nvSpPr>
            <p:cNvPr id="48" name=""/>
            <p:cNvSpPr/>
            <p:nvPr/>
          </p:nvSpPr>
          <p:spPr>
            <a:xfrm rot="639600">
              <a:off x="2673000" y="3110040"/>
              <a:ext cx="1138320" cy="75564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609720" y="3498120"/>
              <a:ext cx="176760" cy="186480"/>
              <a:chOff x="3609720" y="3498120"/>
              <a:chExt cx="176760" cy="186480"/>
            </a:xfrm>
          </p:grpSpPr>
          <p:sp>
            <p:nvSpPr>
              <p:cNvPr id="50" name=""/>
              <p:cNvSpPr/>
              <p:nvPr/>
            </p:nvSpPr>
            <p:spPr>
              <a:xfrm rot="639600">
                <a:off x="3651120" y="3504960"/>
                <a:ext cx="92520" cy="172440"/>
              </a:xfrm>
              <a:custGeom>
                <a:avLst/>
                <a:gdLst>
                  <a:gd name="textAreaLeft" fmla="*/ 38160 w 92520"/>
                  <a:gd name="textAreaRight" fmla="*/ 54360 w 92520"/>
                  <a:gd name="textAreaTop" fmla="*/ 70920 h 172440"/>
                  <a:gd name="textAreaBottom" fmla="*/ 101520 h 17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19476600">
                <a:off x="3633120" y="3529080"/>
                <a:ext cx="129240" cy="123120"/>
              </a:xfrm>
              <a:custGeom>
                <a:avLst/>
                <a:gdLst>
                  <a:gd name="textAreaLeft" fmla="*/ 53280 w 129240"/>
                  <a:gd name="textAreaRight" fmla="*/ 75960 w 129240"/>
                  <a:gd name="textAreaTop" fmla="*/ 50760 h 123120"/>
                  <a:gd name="textAreaBottom" fmla="*/ 72360 h 12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4584600" y="3873600"/>
            <a:ext cx="4280040" cy="1092240"/>
          </a:xfrm>
          <a:custGeom>
            <a:avLst/>
            <a:gdLst/>
            <a:ahLst/>
            <a:rect l="l" t="t" r="r" b="b"/>
            <a:pathLst>
              <a:path w="2696" h="688">
                <a:moveTo>
                  <a:pt x="184" y="440"/>
                </a:moveTo>
                <a:cubicBezTo>
                  <a:pt x="368" y="504"/>
                  <a:pt x="1152" y="600"/>
                  <a:pt x="1384" y="632"/>
                </a:cubicBezTo>
                <a:cubicBezTo>
                  <a:pt x="1616" y="664"/>
                  <a:pt x="1472" y="688"/>
                  <a:pt x="1576" y="632"/>
                </a:cubicBezTo>
                <a:cubicBezTo>
                  <a:pt x="1680" y="576"/>
                  <a:pt x="1928" y="360"/>
                  <a:pt x="2008" y="296"/>
                </a:cubicBezTo>
                <a:cubicBezTo>
                  <a:pt x="2088" y="232"/>
                  <a:pt x="1944" y="296"/>
                  <a:pt x="2056" y="248"/>
                </a:cubicBezTo>
                <a:cubicBezTo>
                  <a:pt x="2168" y="200"/>
                  <a:pt x="2696" y="16"/>
                  <a:pt x="2680" y="8"/>
                </a:cubicBezTo>
                <a:cubicBezTo>
                  <a:pt x="2664" y="0"/>
                  <a:pt x="2088" y="160"/>
                  <a:pt x="1960" y="200"/>
                </a:cubicBezTo>
                <a:cubicBezTo>
                  <a:pt x="1832" y="240"/>
                  <a:pt x="1992" y="192"/>
                  <a:pt x="1912" y="248"/>
                </a:cubicBezTo>
                <a:cubicBezTo>
                  <a:pt x="1832" y="304"/>
                  <a:pt x="1584" y="488"/>
                  <a:pt x="1480" y="536"/>
                </a:cubicBezTo>
                <a:cubicBezTo>
                  <a:pt x="1376" y="584"/>
                  <a:pt x="1488" y="584"/>
                  <a:pt x="1288" y="536"/>
                </a:cubicBezTo>
                <a:cubicBezTo>
                  <a:pt x="1088" y="488"/>
                  <a:pt x="464" y="264"/>
                  <a:pt x="280" y="248"/>
                </a:cubicBezTo>
                <a:cubicBezTo>
                  <a:pt x="96" y="232"/>
                  <a:pt x="0" y="376"/>
                  <a:pt x="184" y="440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84320" y="723960"/>
            <a:ext cx="7875720" cy="6269040"/>
          </a:xfrm>
          <a:custGeom>
            <a:avLst/>
            <a:gdLst/>
            <a:ahLst/>
            <a:rect l="l" t="t" r="r" b="b"/>
            <a:pathLst>
              <a:path w="4961" h="3949">
                <a:moveTo>
                  <a:pt x="75" y="3295"/>
                </a:moveTo>
                <a:cubicBezTo>
                  <a:pt x="100" y="3277"/>
                  <a:pt x="127" y="3270"/>
                  <a:pt x="157" y="3261"/>
                </a:cubicBezTo>
                <a:cubicBezTo>
                  <a:pt x="202" y="3248"/>
                  <a:pt x="241" y="3218"/>
                  <a:pt x="287" y="3206"/>
                </a:cubicBezTo>
                <a:cubicBezTo>
                  <a:pt x="316" y="3199"/>
                  <a:pt x="318" y="3202"/>
                  <a:pt x="342" y="3192"/>
                </a:cubicBezTo>
                <a:cubicBezTo>
                  <a:pt x="422" y="3157"/>
                  <a:pt x="500" y="3124"/>
                  <a:pt x="582" y="3096"/>
                </a:cubicBezTo>
                <a:cubicBezTo>
                  <a:pt x="632" y="3079"/>
                  <a:pt x="589" y="3086"/>
                  <a:pt x="637" y="3062"/>
                </a:cubicBezTo>
                <a:cubicBezTo>
                  <a:pt x="664" y="3048"/>
                  <a:pt x="704" y="3030"/>
                  <a:pt x="733" y="3021"/>
                </a:cubicBezTo>
                <a:cubicBezTo>
                  <a:pt x="806" y="2948"/>
                  <a:pt x="702" y="3045"/>
                  <a:pt x="781" y="2993"/>
                </a:cubicBezTo>
                <a:cubicBezTo>
                  <a:pt x="788" y="2989"/>
                  <a:pt x="788" y="2978"/>
                  <a:pt x="795" y="2973"/>
                </a:cubicBezTo>
                <a:cubicBezTo>
                  <a:pt x="805" y="2966"/>
                  <a:pt x="818" y="2965"/>
                  <a:pt x="829" y="2959"/>
                </a:cubicBezTo>
                <a:cubicBezTo>
                  <a:pt x="862" y="2940"/>
                  <a:pt x="892" y="2915"/>
                  <a:pt x="925" y="2897"/>
                </a:cubicBezTo>
                <a:cubicBezTo>
                  <a:pt x="984" y="2865"/>
                  <a:pt x="1046" y="2842"/>
                  <a:pt x="1110" y="2822"/>
                </a:cubicBezTo>
                <a:cubicBezTo>
                  <a:pt x="1161" y="2806"/>
                  <a:pt x="1210" y="2792"/>
                  <a:pt x="1261" y="2774"/>
                </a:cubicBezTo>
                <a:cubicBezTo>
                  <a:pt x="1282" y="2767"/>
                  <a:pt x="1302" y="2760"/>
                  <a:pt x="1323" y="2753"/>
                </a:cubicBezTo>
                <a:cubicBezTo>
                  <a:pt x="1330" y="2751"/>
                  <a:pt x="1343" y="2746"/>
                  <a:pt x="1343" y="2746"/>
                </a:cubicBezTo>
                <a:cubicBezTo>
                  <a:pt x="1368" y="2711"/>
                  <a:pt x="1421" y="2703"/>
                  <a:pt x="1460" y="2685"/>
                </a:cubicBezTo>
                <a:cubicBezTo>
                  <a:pt x="1548" y="2645"/>
                  <a:pt x="1576" y="2643"/>
                  <a:pt x="1679" y="2637"/>
                </a:cubicBezTo>
                <a:cubicBezTo>
                  <a:pt x="1811" y="2593"/>
                  <a:pt x="2230" y="2599"/>
                  <a:pt x="2310" y="2595"/>
                </a:cubicBezTo>
                <a:cubicBezTo>
                  <a:pt x="2467" y="2575"/>
                  <a:pt x="2628" y="2612"/>
                  <a:pt x="2783" y="2582"/>
                </a:cubicBezTo>
                <a:cubicBezTo>
                  <a:pt x="2808" y="2577"/>
                  <a:pt x="2784" y="2531"/>
                  <a:pt x="2790" y="2506"/>
                </a:cubicBezTo>
                <a:cubicBezTo>
                  <a:pt x="2793" y="2493"/>
                  <a:pt x="2831" y="2510"/>
                  <a:pt x="2838" y="2499"/>
                </a:cubicBezTo>
                <a:cubicBezTo>
                  <a:pt x="2854" y="2404"/>
                  <a:pt x="2838" y="2527"/>
                  <a:pt x="2873" y="2465"/>
                </a:cubicBezTo>
                <a:cubicBezTo>
                  <a:pt x="2878" y="2457"/>
                  <a:pt x="2952" y="2406"/>
                  <a:pt x="2955" y="2397"/>
                </a:cubicBezTo>
                <a:cubicBezTo>
                  <a:pt x="2970" y="2357"/>
                  <a:pt x="3021" y="2262"/>
                  <a:pt x="3051" y="2232"/>
                </a:cubicBezTo>
                <a:cubicBezTo>
                  <a:pt x="3079" y="2159"/>
                  <a:pt x="3105" y="2168"/>
                  <a:pt x="3147" y="2102"/>
                </a:cubicBezTo>
                <a:cubicBezTo>
                  <a:pt x="3173" y="2062"/>
                  <a:pt x="3148" y="2013"/>
                  <a:pt x="3188" y="1985"/>
                </a:cubicBezTo>
                <a:cubicBezTo>
                  <a:pt x="3211" y="1952"/>
                  <a:pt x="3203" y="1973"/>
                  <a:pt x="3236" y="1951"/>
                </a:cubicBezTo>
                <a:cubicBezTo>
                  <a:pt x="3253" y="1927"/>
                  <a:pt x="3255" y="1893"/>
                  <a:pt x="3277" y="1875"/>
                </a:cubicBezTo>
                <a:cubicBezTo>
                  <a:pt x="3316" y="1842"/>
                  <a:pt x="3318" y="1864"/>
                  <a:pt x="3373" y="1841"/>
                </a:cubicBezTo>
                <a:cubicBezTo>
                  <a:pt x="3406" y="1809"/>
                  <a:pt x="3424" y="1770"/>
                  <a:pt x="3462" y="1745"/>
                </a:cubicBezTo>
                <a:cubicBezTo>
                  <a:pt x="3442" y="1731"/>
                  <a:pt x="3846" y="957"/>
                  <a:pt x="3846" y="957"/>
                </a:cubicBezTo>
                <a:cubicBezTo>
                  <a:pt x="3866" y="971"/>
                  <a:pt x="3705" y="1407"/>
                  <a:pt x="3716" y="1395"/>
                </a:cubicBezTo>
                <a:cubicBezTo>
                  <a:pt x="3729" y="1381"/>
                  <a:pt x="3564" y="1680"/>
                  <a:pt x="3579" y="1670"/>
                </a:cubicBezTo>
                <a:cubicBezTo>
                  <a:pt x="3634" y="1636"/>
                  <a:pt x="3678" y="1625"/>
                  <a:pt x="3743" y="1615"/>
                </a:cubicBezTo>
                <a:cubicBezTo>
                  <a:pt x="3798" y="1579"/>
                  <a:pt x="3839" y="1543"/>
                  <a:pt x="3901" y="1512"/>
                </a:cubicBezTo>
                <a:cubicBezTo>
                  <a:pt x="3984" y="1470"/>
                  <a:pt x="3944" y="1454"/>
                  <a:pt x="4018" y="1443"/>
                </a:cubicBezTo>
                <a:cubicBezTo>
                  <a:pt x="4091" y="1410"/>
                  <a:pt x="4208" y="1309"/>
                  <a:pt x="4271" y="1258"/>
                </a:cubicBezTo>
                <a:cubicBezTo>
                  <a:pt x="4316" y="1222"/>
                  <a:pt x="4347" y="1177"/>
                  <a:pt x="4402" y="1155"/>
                </a:cubicBezTo>
                <a:cubicBezTo>
                  <a:pt x="4428" y="1115"/>
                  <a:pt x="4398" y="1153"/>
                  <a:pt x="4450" y="1121"/>
                </a:cubicBezTo>
                <a:cubicBezTo>
                  <a:pt x="4458" y="1116"/>
                  <a:pt x="4463" y="1107"/>
                  <a:pt x="4470" y="1101"/>
                </a:cubicBezTo>
                <a:cubicBezTo>
                  <a:pt x="4488" y="1086"/>
                  <a:pt x="4498" y="1085"/>
                  <a:pt x="4518" y="1073"/>
                </a:cubicBezTo>
                <a:cubicBezTo>
                  <a:pt x="4575" y="1040"/>
                  <a:pt x="4604" y="1020"/>
                  <a:pt x="4669" y="1005"/>
                </a:cubicBezTo>
                <a:cubicBezTo>
                  <a:pt x="4712" y="983"/>
                  <a:pt x="4738" y="959"/>
                  <a:pt x="4786" y="943"/>
                </a:cubicBezTo>
                <a:cubicBezTo>
                  <a:pt x="4796" y="0"/>
                  <a:pt x="4718" y="495"/>
                  <a:pt x="4813" y="223"/>
                </a:cubicBezTo>
                <a:cubicBezTo>
                  <a:pt x="4820" y="344"/>
                  <a:pt x="4815" y="332"/>
                  <a:pt x="4854" y="415"/>
                </a:cubicBezTo>
                <a:cubicBezTo>
                  <a:pt x="4862" y="452"/>
                  <a:pt x="4862" y="464"/>
                  <a:pt x="4889" y="490"/>
                </a:cubicBezTo>
                <a:cubicBezTo>
                  <a:pt x="4891" y="556"/>
                  <a:pt x="4891" y="623"/>
                  <a:pt x="4895" y="689"/>
                </a:cubicBezTo>
                <a:cubicBezTo>
                  <a:pt x="4898" y="749"/>
                  <a:pt x="4921" y="814"/>
                  <a:pt x="4930" y="874"/>
                </a:cubicBezTo>
                <a:cubicBezTo>
                  <a:pt x="4923" y="1009"/>
                  <a:pt x="4961" y="1009"/>
                  <a:pt x="4875" y="1039"/>
                </a:cubicBezTo>
                <a:cubicBezTo>
                  <a:pt x="4825" y="1086"/>
                  <a:pt x="4754" y="1120"/>
                  <a:pt x="4690" y="1142"/>
                </a:cubicBezTo>
                <a:cubicBezTo>
                  <a:pt x="4678" y="1146"/>
                  <a:pt x="4660" y="1163"/>
                  <a:pt x="4649" y="1169"/>
                </a:cubicBezTo>
                <a:cubicBezTo>
                  <a:pt x="4594" y="1197"/>
                  <a:pt x="4550" y="1233"/>
                  <a:pt x="4498" y="1265"/>
                </a:cubicBezTo>
                <a:cubicBezTo>
                  <a:pt x="4455" y="1291"/>
                  <a:pt x="4412" y="1319"/>
                  <a:pt x="4367" y="1341"/>
                </a:cubicBezTo>
                <a:cubicBezTo>
                  <a:pt x="4348" y="1350"/>
                  <a:pt x="4306" y="1361"/>
                  <a:pt x="4306" y="1361"/>
                </a:cubicBezTo>
                <a:cubicBezTo>
                  <a:pt x="4270" y="1397"/>
                  <a:pt x="4290" y="1379"/>
                  <a:pt x="4230" y="1423"/>
                </a:cubicBezTo>
                <a:cubicBezTo>
                  <a:pt x="4223" y="1428"/>
                  <a:pt x="4210" y="1437"/>
                  <a:pt x="4210" y="1437"/>
                </a:cubicBezTo>
                <a:cubicBezTo>
                  <a:pt x="4182" y="1477"/>
                  <a:pt x="4164" y="1518"/>
                  <a:pt x="4127" y="1553"/>
                </a:cubicBezTo>
                <a:cubicBezTo>
                  <a:pt x="4099" y="1612"/>
                  <a:pt x="4132" y="1556"/>
                  <a:pt x="4093" y="1594"/>
                </a:cubicBezTo>
                <a:cubicBezTo>
                  <a:pt x="4055" y="1631"/>
                  <a:pt x="4067" y="1681"/>
                  <a:pt x="4004" y="1697"/>
                </a:cubicBezTo>
                <a:cubicBezTo>
                  <a:pt x="3979" y="1722"/>
                  <a:pt x="3964" y="1720"/>
                  <a:pt x="3935" y="1738"/>
                </a:cubicBezTo>
                <a:cubicBezTo>
                  <a:pt x="3869" y="1779"/>
                  <a:pt x="3793" y="1810"/>
                  <a:pt x="3716" y="1827"/>
                </a:cubicBezTo>
                <a:cubicBezTo>
                  <a:pt x="3690" y="1841"/>
                  <a:pt x="3674" y="1860"/>
                  <a:pt x="3647" y="1869"/>
                </a:cubicBezTo>
                <a:cubicBezTo>
                  <a:pt x="3625" y="1891"/>
                  <a:pt x="3599" y="1907"/>
                  <a:pt x="3579" y="1930"/>
                </a:cubicBezTo>
                <a:cubicBezTo>
                  <a:pt x="3546" y="1969"/>
                  <a:pt x="3512" y="2011"/>
                  <a:pt x="3476" y="2047"/>
                </a:cubicBezTo>
                <a:cubicBezTo>
                  <a:pt x="3424" y="2099"/>
                  <a:pt x="3487" y="2018"/>
                  <a:pt x="3435" y="2081"/>
                </a:cubicBezTo>
                <a:cubicBezTo>
                  <a:pt x="3412" y="2109"/>
                  <a:pt x="3417" y="2136"/>
                  <a:pt x="3387" y="2157"/>
                </a:cubicBezTo>
                <a:cubicBezTo>
                  <a:pt x="3357" y="2231"/>
                  <a:pt x="3306" y="2300"/>
                  <a:pt x="3257" y="2362"/>
                </a:cubicBezTo>
                <a:cubicBezTo>
                  <a:pt x="3248" y="2388"/>
                  <a:pt x="3230" y="2401"/>
                  <a:pt x="3215" y="2424"/>
                </a:cubicBezTo>
                <a:cubicBezTo>
                  <a:pt x="3201" y="2472"/>
                  <a:pt x="3219" y="2418"/>
                  <a:pt x="3195" y="2465"/>
                </a:cubicBezTo>
                <a:cubicBezTo>
                  <a:pt x="3183" y="2489"/>
                  <a:pt x="3182" y="2511"/>
                  <a:pt x="3167" y="2534"/>
                </a:cubicBezTo>
                <a:cubicBezTo>
                  <a:pt x="3165" y="2543"/>
                  <a:pt x="3165" y="2553"/>
                  <a:pt x="3161" y="2561"/>
                </a:cubicBezTo>
                <a:cubicBezTo>
                  <a:pt x="3154" y="2576"/>
                  <a:pt x="3133" y="2602"/>
                  <a:pt x="3133" y="2602"/>
                </a:cubicBezTo>
                <a:cubicBezTo>
                  <a:pt x="3023" y="2931"/>
                  <a:pt x="2806" y="2794"/>
                  <a:pt x="2406" y="2808"/>
                </a:cubicBezTo>
                <a:cubicBezTo>
                  <a:pt x="2264" y="2818"/>
                  <a:pt x="2123" y="2837"/>
                  <a:pt x="1981" y="2849"/>
                </a:cubicBezTo>
                <a:cubicBezTo>
                  <a:pt x="1923" y="2864"/>
                  <a:pt x="1878" y="2889"/>
                  <a:pt x="1817" y="2897"/>
                </a:cubicBezTo>
                <a:cubicBezTo>
                  <a:pt x="1802" y="2902"/>
                  <a:pt x="1790" y="2913"/>
                  <a:pt x="1775" y="2918"/>
                </a:cubicBezTo>
                <a:cubicBezTo>
                  <a:pt x="1729" y="2933"/>
                  <a:pt x="1656" y="2948"/>
                  <a:pt x="1611" y="2959"/>
                </a:cubicBezTo>
                <a:cubicBezTo>
                  <a:pt x="1576" y="2968"/>
                  <a:pt x="1543" y="2983"/>
                  <a:pt x="1508" y="2993"/>
                </a:cubicBezTo>
                <a:cubicBezTo>
                  <a:pt x="1481" y="3001"/>
                  <a:pt x="1458" y="3016"/>
                  <a:pt x="1433" y="3027"/>
                </a:cubicBezTo>
                <a:cubicBezTo>
                  <a:pt x="1398" y="3042"/>
                  <a:pt x="1360" y="3049"/>
                  <a:pt x="1323" y="3055"/>
                </a:cubicBezTo>
                <a:cubicBezTo>
                  <a:pt x="1274" y="3090"/>
                  <a:pt x="1230" y="3105"/>
                  <a:pt x="1172" y="3117"/>
                </a:cubicBezTo>
                <a:cubicBezTo>
                  <a:pt x="1114" y="3153"/>
                  <a:pt x="1038" y="3167"/>
                  <a:pt x="973" y="3185"/>
                </a:cubicBezTo>
                <a:cubicBezTo>
                  <a:pt x="937" y="3195"/>
                  <a:pt x="905" y="3213"/>
                  <a:pt x="870" y="3226"/>
                </a:cubicBezTo>
                <a:cubicBezTo>
                  <a:pt x="836" y="3281"/>
                  <a:pt x="775" y="3279"/>
                  <a:pt x="726" y="3315"/>
                </a:cubicBezTo>
                <a:cubicBezTo>
                  <a:pt x="645" y="3375"/>
                  <a:pt x="557" y="3440"/>
                  <a:pt x="466" y="3487"/>
                </a:cubicBezTo>
                <a:cubicBezTo>
                  <a:pt x="450" y="3532"/>
                  <a:pt x="472" y="3486"/>
                  <a:pt x="438" y="3514"/>
                </a:cubicBezTo>
                <a:cubicBezTo>
                  <a:pt x="414" y="3534"/>
                  <a:pt x="422" y="3556"/>
                  <a:pt x="383" y="3569"/>
                </a:cubicBezTo>
                <a:cubicBezTo>
                  <a:pt x="352" y="3591"/>
                  <a:pt x="346" y="3609"/>
                  <a:pt x="322" y="3638"/>
                </a:cubicBezTo>
                <a:cubicBezTo>
                  <a:pt x="308" y="3656"/>
                  <a:pt x="274" y="3686"/>
                  <a:pt x="274" y="3686"/>
                </a:cubicBezTo>
                <a:cubicBezTo>
                  <a:pt x="257" y="3735"/>
                  <a:pt x="283" y="3674"/>
                  <a:pt x="239" y="3720"/>
                </a:cubicBezTo>
                <a:cubicBezTo>
                  <a:pt x="234" y="3725"/>
                  <a:pt x="237" y="3735"/>
                  <a:pt x="233" y="3741"/>
                </a:cubicBezTo>
                <a:cubicBezTo>
                  <a:pt x="213" y="3770"/>
                  <a:pt x="181" y="3792"/>
                  <a:pt x="157" y="3816"/>
                </a:cubicBezTo>
                <a:cubicBezTo>
                  <a:pt x="113" y="3860"/>
                  <a:pt x="123" y="3882"/>
                  <a:pt x="54" y="3905"/>
                </a:cubicBezTo>
                <a:cubicBezTo>
                  <a:pt x="7" y="3937"/>
                  <a:pt x="18" y="3949"/>
                  <a:pt x="6" y="3912"/>
                </a:cubicBezTo>
                <a:cubicBezTo>
                  <a:pt x="11" y="3665"/>
                  <a:pt x="11" y="3661"/>
                  <a:pt x="27" y="3494"/>
                </a:cubicBezTo>
                <a:cubicBezTo>
                  <a:pt x="30" y="3434"/>
                  <a:pt x="0" y="3352"/>
                  <a:pt x="47" y="3315"/>
                </a:cubicBezTo>
                <a:cubicBezTo>
                  <a:pt x="84" y="3286"/>
                  <a:pt x="57" y="3331"/>
                  <a:pt x="75" y="3295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07960"/>
            <a:ext cx="1371600" cy="4749840"/>
          </a:xfrm>
          <a:custGeom>
            <a:avLst/>
            <a:gdLst/>
            <a:ahLst/>
            <a:rect l="l" t="t" r="r" b="b"/>
            <a:pathLst>
              <a:path w="864" h="2992">
                <a:moveTo>
                  <a:pt x="0" y="2992"/>
                </a:moveTo>
                <a:cubicBezTo>
                  <a:pt x="260" y="2676"/>
                  <a:pt x="520" y="2360"/>
                  <a:pt x="624" y="2176"/>
                </a:cubicBezTo>
                <a:cubicBezTo>
                  <a:pt x="728" y="1992"/>
                  <a:pt x="712" y="2080"/>
                  <a:pt x="624" y="1888"/>
                </a:cubicBezTo>
                <a:cubicBezTo>
                  <a:pt x="536" y="1696"/>
                  <a:pt x="192" y="1208"/>
                  <a:pt x="96" y="1024"/>
                </a:cubicBezTo>
                <a:cubicBezTo>
                  <a:pt x="0" y="840"/>
                  <a:pt x="32" y="952"/>
                  <a:pt x="48" y="784"/>
                </a:cubicBezTo>
                <a:cubicBezTo>
                  <a:pt x="64" y="616"/>
                  <a:pt x="184" y="0"/>
                  <a:pt x="192" y="16"/>
                </a:cubicBezTo>
                <a:cubicBezTo>
                  <a:pt x="200" y="32"/>
                  <a:pt x="88" y="720"/>
                  <a:pt x="96" y="880"/>
                </a:cubicBezTo>
                <a:cubicBezTo>
                  <a:pt x="104" y="1040"/>
                  <a:pt x="216" y="1000"/>
                  <a:pt x="240" y="976"/>
                </a:cubicBezTo>
                <a:cubicBezTo>
                  <a:pt x="264" y="952"/>
                  <a:pt x="232" y="736"/>
                  <a:pt x="240" y="736"/>
                </a:cubicBezTo>
                <a:cubicBezTo>
                  <a:pt x="248" y="736"/>
                  <a:pt x="280" y="912"/>
                  <a:pt x="288" y="976"/>
                </a:cubicBezTo>
                <a:cubicBezTo>
                  <a:pt x="296" y="1040"/>
                  <a:pt x="264" y="1050"/>
                  <a:pt x="288" y="1120"/>
                </a:cubicBezTo>
                <a:cubicBezTo>
                  <a:pt x="312" y="1190"/>
                  <a:pt x="344" y="1242"/>
                  <a:pt x="432" y="1394"/>
                </a:cubicBezTo>
                <a:cubicBezTo>
                  <a:pt x="520" y="1546"/>
                  <a:pt x="768" y="1894"/>
                  <a:pt x="816" y="2032"/>
                </a:cubicBezTo>
                <a:cubicBezTo>
                  <a:pt x="864" y="2170"/>
                  <a:pt x="808" y="2072"/>
                  <a:pt x="720" y="2224"/>
                </a:cubicBezTo>
                <a:cubicBezTo>
                  <a:pt x="632" y="2376"/>
                  <a:pt x="360" y="2824"/>
                  <a:pt x="288" y="2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34320" y="3048120"/>
            <a:ext cx="1222200" cy="1704960"/>
          </a:xfrm>
          <a:custGeom>
            <a:avLst/>
            <a:gdLst/>
            <a:ahLst/>
            <a:rect l="l" t="t" r="r" b="b"/>
            <a:pathLst>
              <a:path w="770" h="1074">
                <a:moveTo>
                  <a:pt x="192" y="978"/>
                </a:moveTo>
                <a:cubicBezTo>
                  <a:pt x="218" y="876"/>
                  <a:pt x="254" y="528"/>
                  <a:pt x="350" y="368"/>
                </a:cubicBezTo>
                <a:cubicBezTo>
                  <a:pt x="446" y="208"/>
                  <a:pt x="770" y="36"/>
                  <a:pt x="768" y="18"/>
                </a:cubicBezTo>
                <a:cubicBezTo>
                  <a:pt x="766" y="0"/>
                  <a:pt x="424" y="186"/>
                  <a:pt x="336" y="258"/>
                </a:cubicBezTo>
                <a:cubicBezTo>
                  <a:pt x="248" y="330"/>
                  <a:pt x="281" y="458"/>
                  <a:pt x="240" y="450"/>
                </a:cubicBezTo>
                <a:cubicBezTo>
                  <a:pt x="199" y="442"/>
                  <a:pt x="97" y="202"/>
                  <a:pt x="89" y="210"/>
                </a:cubicBezTo>
                <a:cubicBezTo>
                  <a:pt x="81" y="218"/>
                  <a:pt x="175" y="410"/>
                  <a:pt x="192" y="498"/>
                </a:cubicBezTo>
                <a:cubicBezTo>
                  <a:pt x="209" y="586"/>
                  <a:pt x="208" y="714"/>
                  <a:pt x="192" y="738"/>
                </a:cubicBezTo>
                <a:cubicBezTo>
                  <a:pt x="176" y="762"/>
                  <a:pt x="128" y="690"/>
                  <a:pt x="96" y="642"/>
                </a:cubicBezTo>
                <a:cubicBezTo>
                  <a:pt x="64" y="594"/>
                  <a:pt x="0" y="434"/>
                  <a:pt x="0" y="450"/>
                </a:cubicBezTo>
                <a:cubicBezTo>
                  <a:pt x="0" y="466"/>
                  <a:pt x="72" y="668"/>
                  <a:pt x="96" y="738"/>
                </a:cubicBezTo>
                <a:cubicBezTo>
                  <a:pt x="120" y="808"/>
                  <a:pt x="144" y="812"/>
                  <a:pt x="144" y="868"/>
                </a:cubicBezTo>
                <a:cubicBezTo>
                  <a:pt x="144" y="924"/>
                  <a:pt x="106" y="1031"/>
                  <a:pt x="96" y="107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28840" y="1778040"/>
            <a:ext cx="1176480" cy="1498680"/>
          </a:xfrm>
          <a:custGeom>
            <a:avLst/>
            <a:gdLst/>
            <a:ahLst/>
            <a:rect l="l" t="t" r="r" b="b"/>
            <a:pathLst>
              <a:path w="741" h="944">
                <a:moveTo>
                  <a:pt x="0" y="910"/>
                </a:moveTo>
                <a:cubicBezTo>
                  <a:pt x="37" y="828"/>
                  <a:pt x="98" y="562"/>
                  <a:pt x="213" y="416"/>
                </a:cubicBezTo>
                <a:cubicBezTo>
                  <a:pt x="328" y="270"/>
                  <a:pt x="645" y="64"/>
                  <a:pt x="693" y="32"/>
                </a:cubicBezTo>
                <a:cubicBezTo>
                  <a:pt x="741" y="0"/>
                  <a:pt x="573" y="152"/>
                  <a:pt x="501" y="224"/>
                </a:cubicBezTo>
                <a:cubicBezTo>
                  <a:pt x="429" y="296"/>
                  <a:pt x="333" y="344"/>
                  <a:pt x="261" y="464"/>
                </a:cubicBezTo>
                <a:cubicBezTo>
                  <a:pt x="189" y="584"/>
                  <a:pt x="101" y="864"/>
                  <a:pt x="69" y="944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541400">
            <a:off x="1886040" y="20350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38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5800">
            <a:off x="7315200" y="3122280"/>
            <a:ext cx="201600" cy="35244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73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91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759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1015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0746200">
            <a:off x="6705720" y="441972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62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842000">
            <a:off x="1944000" y="285624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1337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088800">
            <a:off x="5334120" y="2666880"/>
            <a:ext cx="2793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541400">
            <a:off x="7543800" y="121932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413000">
            <a:off x="1294920" y="16765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1265800">
            <a:off x="7315200" y="3123720"/>
            <a:ext cx="201600" cy="3524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541400">
            <a:off x="1893960" y="20350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413000">
            <a:off x="7162560" y="190512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0776200">
            <a:off x="6705360" y="441936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541400">
            <a:off x="7772400" y="3809880"/>
            <a:ext cx="230040" cy="395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4572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741400">
            <a:off x="6219360" y="873000"/>
            <a:ext cx="1374480" cy="11365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775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1599480"/>
            <a:ext cx="1219320" cy="13129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0678400">
            <a:off x="2438280" y="1447560"/>
            <a:ext cx="955800" cy="877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42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rot="3477600">
            <a:off x="1675440" y="837720"/>
            <a:ext cx="1066680" cy="137196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98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rot="20245800">
            <a:off x="848520" y="2038320"/>
            <a:ext cx="1058760" cy="12780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214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817000">
            <a:off x="7675560" y="2957040"/>
            <a:ext cx="99072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428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071600">
            <a:off x="322200" y="815040"/>
            <a:ext cx="1227240" cy="112572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02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90200">
            <a:off x="2590560" y="3429000"/>
            <a:ext cx="279360" cy="35712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43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735600">
            <a:off x="2590560" y="3429000"/>
            <a:ext cx="279360" cy="3571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752000">
            <a:off x="6544440" y="237060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524000">
            <a:off x="7543440" y="144792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19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9950000">
            <a:off x="5334120" y="1676160"/>
            <a:ext cx="106668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515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752000">
            <a:off x="4106160" y="2751480"/>
            <a:ext cx="1066680" cy="104940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8348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1478800">
            <a:off x="1219320" y="4952520"/>
            <a:ext cx="279360" cy="357480"/>
          </a:xfrm>
          <a:prstGeom prst="ellipse">
            <a:avLst/>
          </a:prstGeom>
          <a:gradFill rotWithShape="0">
            <a:gsLst>
              <a:gs pos="0">
                <a:srgbClr val="808000"/>
              </a:gs>
              <a:gs pos="100000">
                <a:srgbClr val="993300"/>
              </a:gs>
            </a:gsLst>
            <a:lin ang="55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21478800">
            <a:off x="1219320" y="4952520"/>
            <a:ext cx="304560" cy="3574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665400">
            <a:off x="295560" y="4276080"/>
            <a:ext cx="1067040" cy="104904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943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8243000">
            <a:off x="647640" y="3848040"/>
            <a:ext cx="1295280" cy="1066680"/>
          </a:xfrm>
          <a:custGeom>
            <a:avLst/>
            <a:gdLst/>
            <a:ahLst/>
            <a:rect l="l" t="t" r="r" b="b"/>
            <a:pathLst>
              <a:path w="1581" h="1636">
                <a:moveTo>
                  <a:pt x="0" y="1552"/>
                </a:moveTo>
                <a:cubicBezTo>
                  <a:pt x="35" y="1500"/>
                  <a:pt x="23" y="1474"/>
                  <a:pt x="28" y="1398"/>
                </a:cubicBezTo>
                <a:cubicBezTo>
                  <a:pt x="32" y="1246"/>
                  <a:pt x="5" y="1127"/>
                  <a:pt x="92" y="1011"/>
                </a:cubicBezTo>
                <a:cubicBezTo>
                  <a:pt x="101" y="983"/>
                  <a:pt x="111" y="955"/>
                  <a:pt x="120" y="927"/>
                </a:cubicBezTo>
                <a:cubicBezTo>
                  <a:pt x="133" y="889"/>
                  <a:pt x="175" y="860"/>
                  <a:pt x="197" y="829"/>
                </a:cubicBezTo>
                <a:cubicBezTo>
                  <a:pt x="215" y="804"/>
                  <a:pt x="220" y="783"/>
                  <a:pt x="246" y="765"/>
                </a:cubicBezTo>
                <a:cubicBezTo>
                  <a:pt x="276" y="720"/>
                  <a:pt x="309" y="698"/>
                  <a:pt x="352" y="667"/>
                </a:cubicBezTo>
                <a:cubicBezTo>
                  <a:pt x="378" y="649"/>
                  <a:pt x="418" y="608"/>
                  <a:pt x="450" y="597"/>
                </a:cubicBezTo>
                <a:cubicBezTo>
                  <a:pt x="478" y="576"/>
                  <a:pt x="508" y="545"/>
                  <a:pt x="541" y="534"/>
                </a:cubicBezTo>
                <a:cubicBezTo>
                  <a:pt x="566" y="514"/>
                  <a:pt x="595" y="499"/>
                  <a:pt x="618" y="477"/>
                </a:cubicBezTo>
                <a:cubicBezTo>
                  <a:pt x="631" y="464"/>
                  <a:pt x="640" y="447"/>
                  <a:pt x="654" y="435"/>
                </a:cubicBezTo>
                <a:cubicBezTo>
                  <a:pt x="681" y="412"/>
                  <a:pt x="715" y="399"/>
                  <a:pt x="745" y="379"/>
                </a:cubicBezTo>
                <a:cubicBezTo>
                  <a:pt x="784" y="320"/>
                  <a:pt x="842" y="303"/>
                  <a:pt x="899" y="267"/>
                </a:cubicBezTo>
                <a:cubicBezTo>
                  <a:pt x="974" y="219"/>
                  <a:pt x="1071" y="196"/>
                  <a:pt x="1152" y="161"/>
                </a:cubicBezTo>
                <a:cubicBezTo>
                  <a:pt x="1199" y="141"/>
                  <a:pt x="1254" y="135"/>
                  <a:pt x="1300" y="112"/>
                </a:cubicBezTo>
                <a:cubicBezTo>
                  <a:pt x="1344" y="90"/>
                  <a:pt x="1389" y="71"/>
                  <a:pt x="1433" y="49"/>
                </a:cubicBezTo>
                <a:cubicBezTo>
                  <a:pt x="1463" y="34"/>
                  <a:pt x="1487" y="10"/>
                  <a:pt x="1518" y="0"/>
                </a:cubicBezTo>
                <a:cubicBezTo>
                  <a:pt x="1581" y="94"/>
                  <a:pt x="1520" y="190"/>
                  <a:pt x="1482" y="274"/>
                </a:cubicBezTo>
                <a:cubicBezTo>
                  <a:pt x="1472" y="297"/>
                  <a:pt x="1464" y="321"/>
                  <a:pt x="1454" y="344"/>
                </a:cubicBezTo>
                <a:cubicBezTo>
                  <a:pt x="1448" y="357"/>
                  <a:pt x="1440" y="386"/>
                  <a:pt x="1440" y="386"/>
                </a:cubicBezTo>
                <a:cubicBezTo>
                  <a:pt x="1434" y="683"/>
                  <a:pt x="1544" y="1104"/>
                  <a:pt x="1300" y="1348"/>
                </a:cubicBezTo>
                <a:cubicBezTo>
                  <a:pt x="1291" y="1378"/>
                  <a:pt x="1281" y="1395"/>
                  <a:pt x="1251" y="1405"/>
                </a:cubicBezTo>
                <a:cubicBezTo>
                  <a:pt x="1233" y="1440"/>
                  <a:pt x="1215" y="1451"/>
                  <a:pt x="1180" y="1468"/>
                </a:cubicBezTo>
                <a:cubicBezTo>
                  <a:pt x="1126" y="1522"/>
                  <a:pt x="1049" y="1538"/>
                  <a:pt x="977" y="1552"/>
                </a:cubicBezTo>
                <a:cubicBezTo>
                  <a:pt x="903" y="1589"/>
                  <a:pt x="818" y="1574"/>
                  <a:pt x="738" y="1587"/>
                </a:cubicBezTo>
                <a:cubicBezTo>
                  <a:pt x="656" y="1620"/>
                  <a:pt x="597" y="1630"/>
                  <a:pt x="506" y="1636"/>
                </a:cubicBezTo>
                <a:cubicBezTo>
                  <a:pt x="426" y="1634"/>
                  <a:pt x="346" y="1635"/>
                  <a:pt x="267" y="1629"/>
                </a:cubicBezTo>
                <a:cubicBezTo>
                  <a:pt x="252" y="1628"/>
                  <a:pt x="239" y="1620"/>
                  <a:pt x="225" y="1615"/>
                </a:cubicBezTo>
                <a:cubicBezTo>
                  <a:pt x="167" y="1596"/>
                  <a:pt x="102" y="1587"/>
                  <a:pt x="42" y="1573"/>
                </a:cubicBezTo>
                <a:cubicBezTo>
                  <a:pt x="15" y="1555"/>
                  <a:pt x="29" y="1562"/>
                  <a:pt x="0" y="1552"/>
                </a:cubicBez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50000">
                <a:srgbClr val="006600"/>
              </a:gs>
              <a:gs pos="100000">
                <a:srgbClr val="33cc33"/>
              </a:gs>
            </a:gsLst>
            <a:lin ang="1686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562800" y="4159800"/>
            <a:ext cx="478800" cy="649800"/>
            <a:chOff x="6562800" y="4159800"/>
            <a:chExt cx="478800" cy="649800"/>
          </a:xfrm>
        </p:grpSpPr>
        <p:sp>
          <p:nvSpPr>
            <p:cNvPr id="96" name=""/>
            <p:cNvSpPr/>
            <p:nvPr/>
          </p:nvSpPr>
          <p:spPr>
            <a:xfrm rot="20149200">
              <a:off x="6705720" y="44100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271000">
              <a:off x="6634080" y="419652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68600" y="3177360"/>
            <a:ext cx="392760" cy="627120"/>
            <a:chOff x="2568600" y="3177360"/>
            <a:chExt cx="392760" cy="627120"/>
          </a:xfrm>
        </p:grpSpPr>
        <p:sp>
          <p:nvSpPr>
            <p:cNvPr id="99" name=""/>
            <p:cNvSpPr/>
            <p:nvPr/>
          </p:nvSpPr>
          <p:spPr>
            <a:xfrm rot="621600">
              <a:off x="2598480" y="3423600"/>
              <a:ext cx="273960" cy="35892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993300"/>
                </a:gs>
              </a:gsLst>
              <a:lin ang="552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43400">
              <a:off x="2638440" y="3202200"/>
              <a:ext cx="279360" cy="434520"/>
            </a:xfrm>
            <a:custGeom>
              <a:avLst/>
              <a:gdLst/>
              <a:ahLst/>
              <a:rect l="l" t="t" r="r" b="b"/>
              <a:pathLst>
                <a:path w="1136" h="1840">
                  <a:moveTo>
                    <a:pt x="0" y="1440"/>
                  </a:moveTo>
                  <a:cubicBezTo>
                    <a:pt x="0" y="1280"/>
                    <a:pt x="88" y="864"/>
                    <a:pt x="144" y="672"/>
                  </a:cubicBezTo>
                  <a:cubicBezTo>
                    <a:pt x="200" y="480"/>
                    <a:pt x="288" y="384"/>
                    <a:pt x="336" y="288"/>
                  </a:cubicBezTo>
                  <a:cubicBezTo>
                    <a:pt x="384" y="192"/>
                    <a:pt x="400" y="112"/>
                    <a:pt x="432" y="96"/>
                  </a:cubicBezTo>
                  <a:cubicBezTo>
                    <a:pt x="464" y="80"/>
                    <a:pt x="496" y="208"/>
                    <a:pt x="528" y="192"/>
                  </a:cubicBezTo>
                  <a:cubicBezTo>
                    <a:pt x="560" y="176"/>
                    <a:pt x="584" y="0"/>
                    <a:pt x="624" y="0"/>
                  </a:cubicBezTo>
                  <a:cubicBezTo>
                    <a:pt x="664" y="0"/>
                    <a:pt x="736" y="168"/>
                    <a:pt x="768" y="192"/>
                  </a:cubicBezTo>
                  <a:cubicBezTo>
                    <a:pt x="800" y="216"/>
                    <a:pt x="792" y="88"/>
                    <a:pt x="816" y="144"/>
                  </a:cubicBezTo>
                  <a:cubicBezTo>
                    <a:pt x="840" y="200"/>
                    <a:pt x="888" y="480"/>
                    <a:pt x="912" y="528"/>
                  </a:cubicBezTo>
                  <a:cubicBezTo>
                    <a:pt x="936" y="576"/>
                    <a:pt x="928" y="368"/>
                    <a:pt x="960" y="432"/>
                  </a:cubicBezTo>
                  <a:cubicBezTo>
                    <a:pt x="992" y="496"/>
                    <a:pt x="1080" y="704"/>
                    <a:pt x="1104" y="912"/>
                  </a:cubicBezTo>
                  <a:cubicBezTo>
                    <a:pt x="1128" y="1120"/>
                    <a:pt x="1136" y="1584"/>
                    <a:pt x="1104" y="1680"/>
                  </a:cubicBezTo>
                  <a:cubicBezTo>
                    <a:pt x="1072" y="1776"/>
                    <a:pt x="960" y="1472"/>
                    <a:pt x="912" y="1488"/>
                  </a:cubicBezTo>
                  <a:cubicBezTo>
                    <a:pt x="864" y="1504"/>
                    <a:pt x="840" y="1784"/>
                    <a:pt x="816" y="1776"/>
                  </a:cubicBezTo>
                  <a:cubicBezTo>
                    <a:pt x="792" y="1768"/>
                    <a:pt x="792" y="1528"/>
                    <a:pt x="768" y="1440"/>
                  </a:cubicBezTo>
                  <a:cubicBezTo>
                    <a:pt x="744" y="1352"/>
                    <a:pt x="720" y="1184"/>
                    <a:pt x="672" y="1248"/>
                  </a:cubicBezTo>
                  <a:cubicBezTo>
                    <a:pt x="624" y="1312"/>
                    <a:pt x="520" y="1808"/>
                    <a:pt x="480" y="1824"/>
                  </a:cubicBezTo>
                  <a:cubicBezTo>
                    <a:pt x="440" y="1840"/>
                    <a:pt x="464" y="1384"/>
                    <a:pt x="432" y="1344"/>
                  </a:cubicBezTo>
                  <a:cubicBezTo>
                    <a:pt x="400" y="1304"/>
                    <a:pt x="312" y="1592"/>
                    <a:pt x="288" y="1584"/>
                  </a:cubicBezTo>
                  <a:cubicBezTo>
                    <a:pt x="264" y="1576"/>
                    <a:pt x="312" y="1288"/>
                    <a:pt x="288" y="1296"/>
                  </a:cubicBezTo>
                  <a:cubicBezTo>
                    <a:pt x="264" y="1304"/>
                    <a:pt x="192" y="1608"/>
                    <a:pt x="144" y="1632"/>
                  </a:cubicBezTo>
                  <a:cubicBezTo>
                    <a:pt x="96" y="1656"/>
                    <a:pt x="0" y="1600"/>
                    <a:pt x="0" y="144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5e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28800" y="2743200"/>
            <a:ext cx="1600200" cy="1447560"/>
            <a:chOff x="1828800" y="2743200"/>
            <a:chExt cx="1600200" cy="1447560"/>
          </a:xfrm>
        </p:grpSpPr>
        <p:sp>
          <p:nvSpPr>
            <p:cNvPr id="102" name=""/>
            <p:cNvSpPr/>
            <p:nvPr/>
          </p:nvSpPr>
          <p:spPr>
            <a:xfrm>
              <a:off x="1828800" y="2743200"/>
              <a:ext cx="1600200" cy="144756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287800" y="3316320"/>
              <a:ext cx="606600" cy="605160"/>
              <a:chOff x="2287800" y="3316320"/>
              <a:chExt cx="606600" cy="60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419560" y="335268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8836400">
                <a:off x="2391120" y="339012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3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10644600">
            <a:off x="2285280" y="373356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1635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428840" y="762120"/>
            <a:ext cx="1428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5371200" y="4065840"/>
            <a:ext cx="1551600" cy="1368000"/>
            <a:chOff x="5371200" y="4065840"/>
            <a:chExt cx="1551600" cy="1368000"/>
          </a:xfrm>
        </p:grpSpPr>
        <p:sp>
          <p:nvSpPr>
            <p:cNvPr id="109" name=""/>
            <p:cNvSpPr/>
            <p:nvPr/>
          </p:nvSpPr>
          <p:spPr>
            <a:xfrm flipH="1" rot="19786800">
              <a:off x="5485680" y="4343040"/>
              <a:ext cx="1322280" cy="812880"/>
            </a:xfrm>
            <a:custGeom>
              <a:avLst/>
              <a:gdLst/>
              <a:ahLst/>
              <a:rect l="l" t="t" r="r" b="b"/>
              <a:pathLst>
                <a:path w="1776" h="840">
                  <a:moveTo>
                    <a:pt x="1280" y="104"/>
                  </a:moveTo>
                  <a:cubicBezTo>
                    <a:pt x="1216" y="80"/>
                    <a:pt x="1152" y="56"/>
                    <a:pt x="1040" y="56"/>
                  </a:cubicBezTo>
                  <a:cubicBezTo>
                    <a:pt x="928" y="56"/>
                    <a:pt x="768" y="0"/>
                    <a:pt x="608" y="104"/>
                  </a:cubicBezTo>
                  <a:cubicBezTo>
                    <a:pt x="448" y="208"/>
                    <a:pt x="160" y="568"/>
                    <a:pt x="80" y="680"/>
                  </a:cubicBezTo>
                  <a:cubicBezTo>
                    <a:pt x="0" y="792"/>
                    <a:pt x="64" y="840"/>
                    <a:pt x="128" y="776"/>
                  </a:cubicBezTo>
                  <a:cubicBezTo>
                    <a:pt x="192" y="712"/>
                    <a:pt x="360" y="408"/>
                    <a:pt x="464" y="296"/>
                  </a:cubicBezTo>
                  <a:cubicBezTo>
                    <a:pt x="568" y="184"/>
                    <a:pt x="656" y="128"/>
                    <a:pt x="752" y="104"/>
                  </a:cubicBezTo>
                  <a:cubicBezTo>
                    <a:pt x="848" y="80"/>
                    <a:pt x="984" y="120"/>
                    <a:pt x="1040" y="152"/>
                  </a:cubicBezTo>
                  <a:cubicBezTo>
                    <a:pt x="1096" y="184"/>
                    <a:pt x="1080" y="240"/>
                    <a:pt x="1088" y="296"/>
                  </a:cubicBezTo>
                  <a:cubicBezTo>
                    <a:pt x="1096" y="352"/>
                    <a:pt x="1056" y="432"/>
                    <a:pt x="1088" y="488"/>
                  </a:cubicBezTo>
                  <a:cubicBezTo>
                    <a:pt x="1120" y="544"/>
                    <a:pt x="1192" y="616"/>
                    <a:pt x="1280" y="632"/>
                  </a:cubicBezTo>
                  <a:cubicBezTo>
                    <a:pt x="1368" y="648"/>
                    <a:pt x="1536" y="632"/>
                    <a:pt x="1616" y="584"/>
                  </a:cubicBezTo>
                  <a:cubicBezTo>
                    <a:pt x="1696" y="536"/>
                    <a:pt x="1744" y="416"/>
                    <a:pt x="1760" y="344"/>
                  </a:cubicBezTo>
                  <a:cubicBezTo>
                    <a:pt x="1776" y="272"/>
                    <a:pt x="1752" y="200"/>
                    <a:pt x="1712" y="152"/>
                  </a:cubicBezTo>
                  <a:cubicBezTo>
                    <a:pt x="1672" y="104"/>
                    <a:pt x="1616" y="72"/>
                    <a:pt x="1520" y="56"/>
                  </a:cubicBezTo>
                  <a:cubicBezTo>
                    <a:pt x="1424" y="40"/>
                    <a:pt x="1200" y="56"/>
                    <a:pt x="1136" y="56"/>
                  </a:cubicBezTo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595480" y="4931640"/>
              <a:ext cx="186120" cy="214560"/>
              <a:chOff x="5595480" y="4931640"/>
              <a:chExt cx="186120" cy="214560"/>
            </a:xfrm>
          </p:grpSpPr>
          <p:sp>
            <p:nvSpPr>
              <p:cNvPr id="111" name=""/>
              <p:cNvSpPr/>
              <p:nvPr/>
            </p:nvSpPr>
            <p:spPr>
              <a:xfrm flipH="1" rot="19786800">
                <a:off x="5634360" y="4945680"/>
                <a:ext cx="107280" cy="185760"/>
              </a:xfrm>
              <a:custGeom>
                <a:avLst/>
                <a:gdLst>
                  <a:gd name="textAreaLeft" fmla="*/ 44280 w 107280"/>
                  <a:gd name="textAreaRight" fmla="*/ 63000 w 107280"/>
                  <a:gd name="textAreaTop" fmla="*/ 76680 h 185760"/>
                  <a:gd name="textAreaBottom" fmla="*/ 109080 h 185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949800">
                <a:off x="5617800" y="4967280"/>
                <a:ext cx="139320" cy="142920"/>
              </a:xfrm>
              <a:custGeom>
                <a:avLst/>
                <a:gdLst>
                  <a:gd name="textAreaLeft" fmla="*/ 57240 w 139320"/>
                  <a:gd name="textAreaRight" fmla="*/ 82080 w 139320"/>
                  <a:gd name="textAreaTop" fmla="*/ 58680 h 142920"/>
                  <a:gd name="textAreaBottom" fmla="*/ 8424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5919120" y="3483000"/>
            <a:ext cx="1497240" cy="1644480"/>
            <a:chOff x="5919120" y="3483000"/>
            <a:chExt cx="1497240" cy="1644480"/>
          </a:xfrm>
        </p:grpSpPr>
        <p:sp>
          <p:nvSpPr>
            <p:cNvPr id="114" name=""/>
            <p:cNvSpPr/>
            <p:nvPr/>
          </p:nvSpPr>
          <p:spPr>
            <a:xfrm flipH="1" rot="16092000">
              <a:off x="5867280" y="3580920"/>
              <a:ext cx="1600200" cy="1447920"/>
            </a:xfrm>
            <a:custGeom>
              <a:avLst/>
              <a:gdLst/>
              <a:ahLst/>
              <a:rect l="l" t="t" r="r" b="b"/>
              <a:pathLst>
                <a:path w="3416" h="2584">
                  <a:moveTo>
                    <a:pt x="1296" y="1880"/>
                  </a:moveTo>
                  <a:cubicBezTo>
                    <a:pt x="1244" y="1836"/>
                    <a:pt x="1192" y="1792"/>
                    <a:pt x="1104" y="1832"/>
                  </a:cubicBezTo>
                  <a:cubicBezTo>
                    <a:pt x="1016" y="1872"/>
                    <a:pt x="832" y="2016"/>
                    <a:pt x="768" y="2120"/>
                  </a:cubicBezTo>
                  <a:cubicBezTo>
                    <a:pt x="704" y="2224"/>
                    <a:pt x="768" y="2392"/>
                    <a:pt x="720" y="2456"/>
                  </a:cubicBezTo>
                  <a:cubicBezTo>
                    <a:pt x="672" y="2520"/>
                    <a:pt x="552" y="2552"/>
                    <a:pt x="480" y="2504"/>
                  </a:cubicBezTo>
                  <a:cubicBezTo>
                    <a:pt x="408" y="2456"/>
                    <a:pt x="352" y="2248"/>
                    <a:pt x="288" y="2168"/>
                  </a:cubicBezTo>
                  <a:cubicBezTo>
                    <a:pt x="224" y="2088"/>
                    <a:pt x="128" y="2112"/>
                    <a:pt x="96" y="2024"/>
                  </a:cubicBezTo>
                  <a:cubicBezTo>
                    <a:pt x="64" y="1936"/>
                    <a:pt x="0" y="1736"/>
                    <a:pt x="96" y="1640"/>
                  </a:cubicBezTo>
                  <a:cubicBezTo>
                    <a:pt x="192" y="1544"/>
                    <a:pt x="472" y="1440"/>
                    <a:pt x="672" y="1448"/>
                  </a:cubicBezTo>
                  <a:cubicBezTo>
                    <a:pt x="872" y="1456"/>
                    <a:pt x="1304" y="1696"/>
                    <a:pt x="1296" y="1688"/>
                  </a:cubicBezTo>
                  <a:cubicBezTo>
                    <a:pt x="1288" y="1680"/>
                    <a:pt x="808" y="1448"/>
                    <a:pt x="624" y="1400"/>
                  </a:cubicBezTo>
                  <a:cubicBezTo>
                    <a:pt x="440" y="1352"/>
                    <a:pt x="280" y="1472"/>
                    <a:pt x="192" y="1400"/>
                  </a:cubicBezTo>
                  <a:cubicBezTo>
                    <a:pt x="104" y="1328"/>
                    <a:pt x="56" y="1064"/>
                    <a:pt x="96" y="968"/>
                  </a:cubicBezTo>
                  <a:cubicBezTo>
                    <a:pt x="136" y="872"/>
                    <a:pt x="368" y="896"/>
                    <a:pt x="432" y="824"/>
                  </a:cubicBezTo>
                  <a:cubicBezTo>
                    <a:pt x="496" y="752"/>
                    <a:pt x="440" y="624"/>
                    <a:pt x="480" y="536"/>
                  </a:cubicBezTo>
                  <a:cubicBezTo>
                    <a:pt x="520" y="448"/>
                    <a:pt x="560" y="320"/>
                    <a:pt x="672" y="296"/>
                  </a:cubicBezTo>
                  <a:cubicBezTo>
                    <a:pt x="784" y="272"/>
                    <a:pt x="1008" y="248"/>
                    <a:pt x="1152" y="392"/>
                  </a:cubicBezTo>
                  <a:cubicBezTo>
                    <a:pt x="1296" y="536"/>
                    <a:pt x="1504" y="1112"/>
                    <a:pt x="1536" y="1160"/>
                  </a:cubicBezTo>
                  <a:cubicBezTo>
                    <a:pt x="1568" y="1208"/>
                    <a:pt x="1392" y="848"/>
                    <a:pt x="1344" y="680"/>
                  </a:cubicBezTo>
                  <a:cubicBezTo>
                    <a:pt x="1296" y="512"/>
                    <a:pt x="1232" y="264"/>
                    <a:pt x="1248" y="152"/>
                  </a:cubicBezTo>
                  <a:cubicBezTo>
                    <a:pt x="1264" y="40"/>
                    <a:pt x="1344" y="16"/>
                    <a:pt x="1440" y="8"/>
                  </a:cubicBezTo>
                  <a:cubicBezTo>
                    <a:pt x="1536" y="0"/>
                    <a:pt x="1696" y="96"/>
                    <a:pt x="1824" y="104"/>
                  </a:cubicBezTo>
                  <a:cubicBezTo>
                    <a:pt x="1952" y="112"/>
                    <a:pt x="2088" y="40"/>
                    <a:pt x="2208" y="56"/>
                  </a:cubicBezTo>
                  <a:cubicBezTo>
                    <a:pt x="2328" y="72"/>
                    <a:pt x="2496" y="88"/>
                    <a:pt x="2544" y="200"/>
                  </a:cubicBezTo>
                  <a:cubicBezTo>
                    <a:pt x="2592" y="312"/>
                    <a:pt x="2592" y="560"/>
                    <a:pt x="2496" y="728"/>
                  </a:cubicBezTo>
                  <a:cubicBezTo>
                    <a:pt x="2400" y="896"/>
                    <a:pt x="2000" y="1176"/>
                    <a:pt x="1968" y="1208"/>
                  </a:cubicBezTo>
                  <a:cubicBezTo>
                    <a:pt x="1936" y="1240"/>
                    <a:pt x="2176" y="1024"/>
                    <a:pt x="2304" y="920"/>
                  </a:cubicBezTo>
                  <a:cubicBezTo>
                    <a:pt x="2432" y="816"/>
                    <a:pt x="2616" y="648"/>
                    <a:pt x="2736" y="584"/>
                  </a:cubicBezTo>
                  <a:cubicBezTo>
                    <a:pt x="2856" y="520"/>
                    <a:pt x="2952" y="480"/>
                    <a:pt x="3024" y="536"/>
                  </a:cubicBezTo>
                  <a:cubicBezTo>
                    <a:pt x="3096" y="592"/>
                    <a:pt x="3160" y="816"/>
                    <a:pt x="3168" y="920"/>
                  </a:cubicBezTo>
                  <a:cubicBezTo>
                    <a:pt x="3176" y="1024"/>
                    <a:pt x="3048" y="1088"/>
                    <a:pt x="3072" y="1160"/>
                  </a:cubicBezTo>
                  <a:cubicBezTo>
                    <a:pt x="3096" y="1232"/>
                    <a:pt x="3264" y="1264"/>
                    <a:pt x="3312" y="1352"/>
                  </a:cubicBezTo>
                  <a:cubicBezTo>
                    <a:pt x="3360" y="1440"/>
                    <a:pt x="3416" y="1592"/>
                    <a:pt x="3360" y="1688"/>
                  </a:cubicBezTo>
                  <a:cubicBezTo>
                    <a:pt x="3304" y="1784"/>
                    <a:pt x="3200" y="1968"/>
                    <a:pt x="2976" y="1928"/>
                  </a:cubicBezTo>
                  <a:cubicBezTo>
                    <a:pt x="2752" y="1888"/>
                    <a:pt x="2056" y="1456"/>
                    <a:pt x="2016" y="1448"/>
                  </a:cubicBezTo>
                  <a:cubicBezTo>
                    <a:pt x="1976" y="1440"/>
                    <a:pt x="2568" y="1760"/>
                    <a:pt x="2736" y="1880"/>
                  </a:cubicBezTo>
                  <a:cubicBezTo>
                    <a:pt x="2904" y="2000"/>
                    <a:pt x="2992" y="2080"/>
                    <a:pt x="3024" y="2168"/>
                  </a:cubicBezTo>
                  <a:cubicBezTo>
                    <a:pt x="3056" y="2256"/>
                    <a:pt x="3008" y="2344"/>
                    <a:pt x="2928" y="2408"/>
                  </a:cubicBezTo>
                  <a:cubicBezTo>
                    <a:pt x="2848" y="2472"/>
                    <a:pt x="2664" y="2584"/>
                    <a:pt x="2544" y="2552"/>
                  </a:cubicBezTo>
                  <a:cubicBezTo>
                    <a:pt x="2424" y="2520"/>
                    <a:pt x="2272" y="2344"/>
                    <a:pt x="2208" y="2216"/>
                  </a:cubicBezTo>
                  <a:cubicBezTo>
                    <a:pt x="2144" y="2088"/>
                    <a:pt x="2184" y="1832"/>
                    <a:pt x="2160" y="1784"/>
                  </a:cubicBezTo>
                  <a:cubicBezTo>
                    <a:pt x="2136" y="1736"/>
                    <a:pt x="2080" y="1904"/>
                    <a:pt x="2064" y="1928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445080" y="3980160"/>
              <a:ext cx="606240" cy="595800"/>
              <a:chOff x="6445080" y="3980160"/>
              <a:chExt cx="606240" cy="595800"/>
            </a:xfrm>
          </p:grpSpPr>
          <p:sp>
            <p:nvSpPr>
              <p:cNvPr id="116" name=""/>
              <p:cNvSpPr/>
              <p:nvPr/>
            </p:nvSpPr>
            <p:spPr>
              <a:xfrm rot="16706400">
                <a:off x="6577200" y="4011120"/>
                <a:ext cx="342720" cy="533520"/>
              </a:xfrm>
              <a:custGeom>
                <a:avLst/>
                <a:gdLst>
                  <a:gd name="textAreaLeft" fmla="*/ 141120 w 342720"/>
                  <a:gd name="textAreaRight" fmla="*/ 201600 w 342720"/>
                  <a:gd name="textAreaTop" fmla="*/ 219960 h 533520"/>
                  <a:gd name="textAreaBottom" fmla="*/ 3135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3942200">
                <a:off x="6548040" y="4049280"/>
                <a:ext cx="399960" cy="457200"/>
              </a:xfrm>
              <a:custGeom>
                <a:avLst/>
                <a:gdLst>
                  <a:gd name="textAreaLeft" fmla="*/ 164880 w 399960"/>
                  <a:gd name="textAreaRight" fmla="*/ 235080 w 399960"/>
                  <a:gd name="textAreaTop" fmla="*/ 188280 h 457200"/>
                  <a:gd name="textAreaBottom" fmla="*/ 2689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f484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 rot="4492800">
            <a:off x="6892920" y="3970080"/>
            <a:ext cx="609480" cy="527040"/>
          </a:xfrm>
          <a:custGeom>
            <a:avLst/>
            <a:gdLst/>
            <a:ahLst/>
            <a:rect l="l" t="t" r="r" b="b"/>
            <a:pathLst>
              <a:path w="442" h="380">
                <a:moveTo>
                  <a:pt x="110" y="369"/>
                </a:moveTo>
                <a:cubicBezTo>
                  <a:pt x="77" y="301"/>
                  <a:pt x="44" y="233"/>
                  <a:pt x="28" y="176"/>
                </a:cubicBezTo>
                <a:cubicBezTo>
                  <a:pt x="11" y="119"/>
                  <a:pt x="0" y="55"/>
                  <a:pt x="11" y="27"/>
                </a:cubicBezTo>
                <a:cubicBezTo>
                  <a:pt x="22" y="0"/>
                  <a:pt x="61" y="10"/>
                  <a:pt x="94" y="12"/>
                </a:cubicBezTo>
                <a:cubicBezTo>
                  <a:pt x="127" y="15"/>
                  <a:pt x="171" y="42"/>
                  <a:pt x="210" y="42"/>
                </a:cubicBezTo>
                <a:cubicBezTo>
                  <a:pt x="248" y="42"/>
                  <a:pt x="290" y="6"/>
                  <a:pt x="326" y="12"/>
                </a:cubicBezTo>
                <a:cubicBezTo>
                  <a:pt x="362" y="18"/>
                  <a:pt x="408" y="45"/>
                  <a:pt x="425" y="78"/>
                </a:cubicBezTo>
                <a:cubicBezTo>
                  <a:pt x="442" y="111"/>
                  <a:pt x="437" y="175"/>
                  <a:pt x="425" y="212"/>
                </a:cubicBezTo>
                <a:cubicBezTo>
                  <a:pt x="413" y="249"/>
                  <a:pt x="381" y="275"/>
                  <a:pt x="355" y="303"/>
                </a:cubicBezTo>
                <a:cubicBezTo>
                  <a:pt x="329" y="331"/>
                  <a:pt x="288" y="364"/>
                  <a:pt x="270" y="38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9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798080" y="3955680"/>
            <a:ext cx="1833480" cy="1765800"/>
            <a:chOff x="4798080" y="3955680"/>
            <a:chExt cx="1833480" cy="1765800"/>
          </a:xfrm>
        </p:grpSpPr>
        <p:sp>
          <p:nvSpPr>
            <p:cNvPr id="120" name=""/>
            <p:cNvSpPr/>
            <p:nvPr/>
          </p:nvSpPr>
          <p:spPr>
            <a:xfrm rot="5041800">
              <a:off x="4914720" y="4000320"/>
              <a:ext cx="160020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041800">
              <a:off x="5140800" y="5253840"/>
              <a:ext cx="17676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680560" y="2586960"/>
            <a:ext cx="1954440" cy="1836720"/>
            <a:chOff x="2680560" y="2586960"/>
            <a:chExt cx="1954440" cy="1836720"/>
          </a:xfrm>
        </p:grpSpPr>
        <p:sp>
          <p:nvSpPr>
            <p:cNvPr id="123" name=""/>
            <p:cNvSpPr/>
            <p:nvPr/>
          </p:nvSpPr>
          <p:spPr>
            <a:xfrm flipV="1" rot="4685400">
              <a:off x="2895480" y="2667240"/>
              <a:ext cx="1523880" cy="1676160"/>
            </a:xfrm>
            <a:custGeom>
              <a:avLst/>
              <a:gdLst/>
              <a:ahLst/>
              <a:rect l="l" t="t" r="r" b="b"/>
              <a:pathLst>
                <a:path w="1864" h="1896">
                  <a:moveTo>
                    <a:pt x="408" y="488"/>
                  </a:moveTo>
                  <a:cubicBezTo>
                    <a:pt x="444" y="500"/>
                    <a:pt x="480" y="512"/>
                    <a:pt x="504" y="488"/>
                  </a:cubicBezTo>
                  <a:cubicBezTo>
                    <a:pt x="528" y="464"/>
                    <a:pt x="496" y="408"/>
                    <a:pt x="552" y="344"/>
                  </a:cubicBezTo>
                  <a:cubicBezTo>
                    <a:pt x="608" y="280"/>
                    <a:pt x="680" y="152"/>
                    <a:pt x="840" y="104"/>
                  </a:cubicBezTo>
                  <a:cubicBezTo>
                    <a:pt x="1000" y="56"/>
                    <a:pt x="1352" y="0"/>
                    <a:pt x="1512" y="56"/>
                  </a:cubicBezTo>
                  <a:cubicBezTo>
                    <a:pt x="1672" y="112"/>
                    <a:pt x="1744" y="280"/>
                    <a:pt x="1800" y="440"/>
                  </a:cubicBezTo>
                  <a:cubicBezTo>
                    <a:pt x="1856" y="600"/>
                    <a:pt x="1864" y="840"/>
                    <a:pt x="1848" y="1016"/>
                  </a:cubicBezTo>
                  <a:cubicBezTo>
                    <a:pt x="1832" y="1192"/>
                    <a:pt x="1840" y="1352"/>
                    <a:pt x="1704" y="1496"/>
                  </a:cubicBezTo>
                  <a:cubicBezTo>
                    <a:pt x="1568" y="1640"/>
                    <a:pt x="1288" y="1864"/>
                    <a:pt x="1032" y="1880"/>
                  </a:cubicBezTo>
                  <a:cubicBezTo>
                    <a:pt x="776" y="1896"/>
                    <a:pt x="336" y="1768"/>
                    <a:pt x="168" y="1592"/>
                  </a:cubicBezTo>
                  <a:cubicBezTo>
                    <a:pt x="0" y="1416"/>
                    <a:pt x="24" y="992"/>
                    <a:pt x="24" y="824"/>
                  </a:cubicBezTo>
                  <a:cubicBezTo>
                    <a:pt x="24" y="656"/>
                    <a:pt x="96" y="640"/>
                    <a:pt x="168" y="584"/>
                  </a:cubicBezTo>
                  <a:cubicBezTo>
                    <a:pt x="240" y="528"/>
                    <a:pt x="408" y="504"/>
                    <a:pt x="456" y="488"/>
                  </a:cubicBez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cc3300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4685400">
              <a:off x="4183200" y="3726360"/>
              <a:ext cx="168480" cy="161640"/>
            </a:xfrm>
            <a:custGeom>
              <a:avLst/>
              <a:gdLst/>
              <a:ahLst/>
              <a:rect l="l" t="t" r="r" b="b"/>
              <a:pathLst>
                <a:path w="206" h="183">
                  <a:moveTo>
                    <a:pt x="123" y="126"/>
                  </a:moveTo>
                  <a:cubicBezTo>
                    <a:pt x="85" y="124"/>
                    <a:pt x="48" y="119"/>
                    <a:pt x="10" y="119"/>
                  </a:cubicBezTo>
                  <a:cubicBezTo>
                    <a:pt x="0" y="119"/>
                    <a:pt x="28" y="126"/>
                    <a:pt x="38" y="126"/>
                  </a:cubicBezTo>
                  <a:cubicBezTo>
                    <a:pt x="48" y="126"/>
                    <a:pt x="57" y="121"/>
                    <a:pt x="66" y="119"/>
                  </a:cubicBezTo>
                  <a:cubicBezTo>
                    <a:pt x="61" y="100"/>
                    <a:pt x="57" y="82"/>
                    <a:pt x="52" y="63"/>
                  </a:cubicBezTo>
                  <a:cubicBezTo>
                    <a:pt x="49" y="49"/>
                    <a:pt x="45" y="7"/>
                    <a:pt x="45" y="21"/>
                  </a:cubicBezTo>
                  <a:cubicBezTo>
                    <a:pt x="45" y="37"/>
                    <a:pt x="50" y="54"/>
                    <a:pt x="52" y="70"/>
                  </a:cubicBezTo>
                  <a:cubicBezTo>
                    <a:pt x="66" y="49"/>
                    <a:pt x="73" y="28"/>
                    <a:pt x="87" y="7"/>
                  </a:cubicBezTo>
                  <a:cubicBezTo>
                    <a:pt x="92" y="14"/>
                    <a:pt x="98" y="20"/>
                    <a:pt x="101" y="28"/>
                  </a:cubicBezTo>
                  <a:cubicBezTo>
                    <a:pt x="105" y="37"/>
                    <a:pt x="99" y="58"/>
                    <a:pt x="108" y="56"/>
                  </a:cubicBezTo>
                  <a:cubicBezTo>
                    <a:pt x="125" y="53"/>
                    <a:pt x="132" y="33"/>
                    <a:pt x="144" y="21"/>
                  </a:cubicBezTo>
                  <a:cubicBezTo>
                    <a:pt x="151" y="14"/>
                    <a:pt x="165" y="0"/>
                    <a:pt x="165" y="0"/>
                  </a:cubicBezTo>
                  <a:cubicBezTo>
                    <a:pt x="179" y="41"/>
                    <a:pt x="206" y="52"/>
                    <a:pt x="179" y="105"/>
                  </a:cubicBezTo>
                  <a:cubicBezTo>
                    <a:pt x="175" y="114"/>
                    <a:pt x="160" y="110"/>
                    <a:pt x="151" y="112"/>
                  </a:cubicBezTo>
                  <a:cubicBezTo>
                    <a:pt x="139" y="148"/>
                    <a:pt x="163" y="183"/>
                    <a:pt x="115" y="168"/>
                  </a:cubicBezTo>
                  <a:cubicBezTo>
                    <a:pt x="110" y="161"/>
                    <a:pt x="108" y="151"/>
                    <a:pt x="101" y="147"/>
                  </a:cubicBezTo>
                  <a:cubicBezTo>
                    <a:pt x="88" y="139"/>
                    <a:pt x="59" y="133"/>
                    <a:pt x="59" y="133"/>
                  </a:cubicBezTo>
                  <a:cubicBezTo>
                    <a:pt x="67" y="109"/>
                    <a:pt x="61" y="117"/>
                    <a:pt x="73" y="105"/>
                  </a:cubicBezTo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29000" y="7086600"/>
            <a:ext cx="142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2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0.01111 L 0.27188 -0.48334 E">
                                      <p:cBhvr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188 -0.48334 L 0.33855 -1.32778 E">
                                      <p:cBhvr>
                                        <p:cTn id="146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44444E-006 L 0.3698 0.26112 E">
                                      <p:cBhvr>
                                        <p:cTn id="149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8 0.26134 L 0.6698 -0.36135 E">
                                      <p:cBhvr>
                                        <p:cTn id="152" dur="3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-3.33333E-006 C 0.02743 0.02408 0.05469 0.04815 0.06354 0.07523 C 0.0724 0.10255 0.06875 0.1382 0.05295 0.1632 C 0.03698 0.18843 -0.00521 0.20093 -0.03177 0.22616 C -0.05816 0.25116 -0.10052 0.27431 -0.10573 0.31412 C -0.11094 0.35394 -0.08628 0.40417 -0.06337 0.46482 C -0.04045 0.5257 0.01597 0.64306 0.03177 0.67871 E">
                                      <p:cBhvr>
                                        <p:cTn id="154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2.22222E-006 1.11022E-016 C -0.01406 0.02407 -0.02795 0.04815 -0.03246 0.07523 C -0.0368 0.10255 -0.03507 0.13819 -0.02708 0.16319 C -0.01892 0.18843 0.00261 0.20093 0.01615 0.22616 C 0.02952 0.25116 0.05104 0.27431 0.05365 0.31412 C 0.05643 0.35394 0.04375 0.40417 0.03212 0.46481 C 0.02049 0.52569 -0.00816 0.64306 -0.01632 0.6787 E">
                                      <p:cBhvr>
                                        <p:cTn id="156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5400000">
                                      <p:cBhvr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16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3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3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евцова С.А.</dc:creator>
  <dc:description/>
  <dc:language>en-US</dc:language>
  <cp:lastModifiedBy>1</cp:lastModifiedBy>
  <dcterms:modified xsi:type="dcterms:W3CDTF">2010-05-15T07:49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